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28EA-178C-4918-9ACE-4433D443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FCD-C4C2-4922-9C92-E8286912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45D-995F-4EF2-B96B-87055401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3C64-0317-4D60-B327-D0F47764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67B6-04EC-49BC-9AA5-430AFFFC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CF75-39B8-494C-B9FB-A967561E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E785-4C18-4149-88BC-8D472122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A1AC-0CE2-4B1E-905C-494A9D33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072B-7AD7-49DB-895A-A1334F89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4B6-3FBC-4F1F-9F67-82FFF51C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5415-625F-48FE-92D7-1B0316FB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380D-7B64-466E-8060-54C2BC90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8B4883-9D73-42AD-AC46-6E4B68926C74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2351A-07E7-4591-A447-D9F2D384339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9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 Energ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Amber Carey, Ben Kloepping &amp; Laura Ortiz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6840" y="1417320"/>
            <a:ext cx="47242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 u="sng">
                <a:solidFill>
                  <a:srgbClr val="ffffff"/>
                </a:solidFill>
                <a:uFillTx/>
                <a:latin typeface="Calibri"/>
              </a:rPr>
              <a:t>Energy Production- 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ue to its abundance and substantial power, wave energy can produce a significant amount of energy. It is estimated that wave energy could produce close to 16% of the world's electricity consumption. 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365760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457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Renewable-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completely renewable and sustainable, with no effort made on the part of humans to make sure this cycle contin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5029200" y="3048120"/>
            <a:ext cx="398304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advantag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nitial cost to create and implement is very hig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predictable size and power of 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requires a suitable location for succ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3289320" cy="2463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60020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n disrupt marine lif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4952880" y="533520"/>
            <a:ext cx="3936960" cy="2666880"/>
          </a:xfrm>
          <a:prstGeom prst="rect">
            <a:avLst/>
          </a:prstGeom>
          <a:ln w="0">
            <a:noFill/>
          </a:ln>
        </p:spPr>
      </p:pic>
      <p:sp>
        <p:nvSpPr>
          <p:cNvPr id="72" name="TextBox 8"/>
          <p:cNvSpPr/>
          <p:nvPr/>
        </p:nvSpPr>
        <p:spPr>
          <a:xfrm>
            <a:off x="4952880" y="365760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an interfere with commercial and sport fish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573120" y="3657600"/>
            <a:ext cx="3922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aves and Win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nd is the ultimate energy source of 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drag of the wind on the surface moves the particles within the water creating wav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1371600" y="3230640"/>
            <a:ext cx="6477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ave Fa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920" y="1417320"/>
            <a:ext cx="8610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mi-submerged tubes linked by joi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joints act as a pumping system, pushing high pressure oil through hydraulic motors, which drive electrical generators to produce electricit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1523880" y="3809880"/>
            <a:ext cx="641376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8085240" cy="502920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1673280" y="380880"/>
            <a:ext cx="572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Wave Farms Example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ave Fa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ortugal built the first commercial wave farm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xpected to power over 2,000 hom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y are in Portugal, United Kingdom, and parts of the United Stat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t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wavesenergy.com/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ocsenergy.anl.gov/guide/wave/index.cf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cleantechnica.com/2008/09/24/worlds-first-commercial-wave-energy-farm-goes-live/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it work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240" y="1417680"/>
            <a:ext cx="47242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upward and  downward movement of the waves is used to create electric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uoy converts the motion of wave energy into electric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184720" y="1417680"/>
            <a:ext cx="3502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It’s Use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nergy provided is used in desalination plants, power plants and water pumps. Energy output is determined by wave height, wave speed, wavelength, and water density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1981080" y="3809880"/>
            <a:ext cx="48006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deo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ww.youtube.com/watch?v=GSOFV3f39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urbine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Energy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waves flow into a chamber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movement of the waves causes air to rotate the turbine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turbine powers the generato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kes electric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de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ww.youtube.com/watch?v=_9jGis5V5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dvantag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 u="sng">
                <a:solidFill>
                  <a:srgbClr val="ffffff"/>
                </a:solidFill>
                <a:uFillTx/>
                <a:latin typeface="Calibri"/>
              </a:rPr>
              <a:t>Cost- </a:t>
            </a: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The cost of running a wave energy generator is very low giving it a large advantage over other renewable energy sources.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876920" y="3575160"/>
            <a:ext cx="400212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No Pollution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-Wave energy boasts the advantage of causing little to no pollution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5500800" y="2940120"/>
            <a:ext cx="3186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6:53:24Z</dcterms:created>
  <dc:creator>PA Department of Education Classrooms for the Future</dc:creator>
  <dc:description/>
  <dc:language>en-US</dc:language>
  <cp:lastModifiedBy>PA Department of Education Classrooms for the Future</cp:lastModifiedBy>
  <dcterms:modified xsi:type="dcterms:W3CDTF">2011-04-27T17:24:09Z</dcterms:modified>
  <cp:revision>24</cp:revision>
  <dc:subject/>
  <dc:title>Slide 1</dc:title>
</cp:coreProperties>
</file>